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48D1-9831-48EB-A977-0AC042E84C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consists of four main components, as shown in Figure 4-19: management appl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infrastructure, providers, and managed objects. Management applications are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that access and display or process data that the applications obtain ab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d objects. A simple example of a management application is a Performance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ment that relies on WMI rather than the Performance API to obtain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. A more complex example is an enterprise-management tool that lets administr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 automated inventories of the software and hardware configuration of e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uter in their enterpri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MI infrastructure, the heart of which is the Common Information Model (CIM) 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r (CIMOM), is the glue that binds management applications and providers. (CIM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bed later in this chapter.) The infrastructure also serves as the object-class store and,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cases, as the storage manager for persistent object properties. WMI implement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, or repository, as an on-disk database named the CIMOM Object Repository. As p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infrastructure, WMI supports several APIs through which management applications a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data and providers supply data and class definiti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programs use the WMI COM API, the primary management API, to directly inte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WMI. Other APIs layer on top of the COM API and include an Open Database Conne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DBC) adapter for the Microsoft Access database application. A database develo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the WMI ODBC adapter to embed references to object data in the developer’s databa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developer can easily generate reports with database queries that contain WMI-ba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. WMI ActiveX controls support another layered API. Web developers use the Acti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s to construct Web-based interfaces to WMI data. Another management API i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API, for use in script-based applications and Microsoft Visual Basic progra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support exists for all Microsoft programming language technolog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they are for management applications, WMI COM interfaces constitute the primary API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rs. However, unlike management applications, which are COM clients, providers 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 or Distributed COM (DCOM) servers (that is, the providers implement COM ob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WMI interacts with). Possible embodiments of a WMI provider include DLLs that 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o WMI’s manager process or stand-alone Windows applications or Windows serv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includes a number of built-in providers that present data from well-known sourc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the Performance API, the registry, the Event Manager, Active Directory, SNM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Driver Model (WDM) device drivers. The WMI SDK lets developers develop third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provid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discusses the scripting mechanisms (Windows Scripting Host, VBScript, Windows Management Instrumentation Scripting, Services for Unix, etc) available in Windows and uses a number of case study scenarios to compare those with UNIX scrip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reader is encouraged to familiarize himself with the Windows way of accessing and administering OS functionality through GUI-based tools. However, those used to the command line style of programming and administration commonly found in other environments will find (nearly) all the typical tools at four different pl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XP/2000 CD \Support\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Resour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Services for UNIX and the Interix subsystem (with a complete POSIX subsystem and an enormous amount of GNU tools compiled for the Windows 2000 platfor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E24-9B11-4055-A55B-F317C5235C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ttle Softway 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Systems was started in September 1995 concurrent with a unique source license from MS that enabled Softway to take the MS POSIX subsystem (which was a GREAT proof-of-concept), and make it real in INTE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ftway were done they had shipped ~40,000 paid s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was originally shipped under the technology brand of “OpenNT”.  It was rebranded as INTERIX in the Spring of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had strategic relationships with Dell (every government workstation and server were bundled with Softway INTERIX Workstation-Lite) and UNISYS for certain government plat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UNIX applications and scripts on Windows NT” means that one recompiles the source code of any programs as a native NT binary that behaves correctly (as if it was UNIX).  This is not a binary emulation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set of slides is based on a presentation given by Stephen R. Walli, Interix Product Unit Manager, Microsoft, at the TechEd 20000 conference in Amsterdam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D711-5022-4996-BC5D-592AB7D364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sh, csh with full job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 300 utilities, including scripting tools such as awk, sed, perl, Tcl/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D sockets mapped to Winsoc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 mapped fi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ID IPC mechanisms: semaphores, message queues and shared memo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-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or curses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ility to exec Win32 applications from Interi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 tty semantics mapped to console window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 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link support, true case sensitive file nam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ll integration with Windows NT security model, administration, file systems, networking and print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POSIX.1 and POSIX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11R5 clients such as xterm, twm, xrdb, and xlscli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daemons running as Windows NT servic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user logi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etd, telnetd, rlogind, rshd, syslogd, talkd, ftpd and their cli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o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grated tape device sup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601B-FD4B-42D1-AC1D-E37A89AE02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ftware development kit (SDK) included with Interix 2.2, makes it easy to migrate existing UNIX-based applications to the Interix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C6CD4-89D9-4DCE-A3FF-BAA1E99D3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7C8C-2652-49FE-BA01-F140D83CF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A18B-543F-427A-BF31-4905D3689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7E56D-5CA2-46AA-A37F-823B6F9B1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D273-9260-4346-BE68-D1FF7FC95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5613-C41F-4271-AF5D-6E04FB863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CB46-733E-44DC-ACA3-363895AD2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E4F9-FDD2-4219-A93F-B75023313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B55B-8CFB-4F9D-98C7-F57F6C32E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9C04-D572-4E28-B20D-333ECEF5E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3265-AFEF-4B9B-A6F9-60852447A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5A38-6989-42E2-B421-B9B7A0C87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287B-377A-49A8-967C-50F6D919B7D1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2: Script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.1.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onitoring Infrastructure: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a historical view - before WMI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native system monitoring mechanisms that have been in NT since its ince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can work remotely, but suffer several drawbacks with respect to general system manag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groups of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dire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to only performance data and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4254-9F1A-4FFC-B770-5FB9BF862A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anagement Infrastructure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a historical view - before 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T management mechanis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 Contro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change configuration, but no notifications/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anaging computer membership in dom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ing computer OS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guring user and group accou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ations of the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general: limited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manage all aspects of a computer’s system configuration, software, or hardware devices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natively scriptable, Non-exten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7C1F-5574-4ECE-BC0C-A46F55AB3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’s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locally and remo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-gr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directi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MI “provider” can export functional interface and event notification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s can write their own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writers can leverage WMI-provider framework, called the WDM provider, to management-enable their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crip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natively .NET programmable when .NET Framework is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A8F9-9F6F-44AB-AF99-73F68DA9D4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 - a closer loo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Database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eb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37160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/C++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DBC (deprecat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ctiveX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200400"/>
            <a:ext cx="57913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dows Management A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191120"/>
            <a:ext cx="365760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Object Manager (CIMO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191120"/>
            <a:ext cx="152388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reposi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1814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60958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73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95288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8360" y="38098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8360" y="47242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1371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191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5257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6095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d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2B5C-6996-4677-8F60-E2DA67EE04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appli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applications that access and display or process the data that they obtain about managed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. Perfmon or event viewer replac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as a Windows Service: Winmgmt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s heart is the CIM Object Manager (CIMO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ue that binds management applications to 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serves as object-class store, and as storage for persistent object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cture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ary API is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s layer on top of 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DBC adap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MI ActiveX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ripting A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16EF-DE92-44BE-9CC5-4C9A70DA95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Managed Resour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3818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r physical component, which is exposed and manageable by using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s, peripheral devices, event logs, files, folders, file systems, networking component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subsystems, performance counters, printers, processes, registry, security, services, sha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users and groups, Active Directory, Windows Installer, Windows Driver Model (WDM) device drivers, SNMP Management Information Base (MI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MI managed resource communicates with WMI through a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8525-D7D9-47DA-B7A5-6B7C778344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Infra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dle layer is the WMI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or definition of and accessed to configuration and managemen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sists of three primary compon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IM Object Manager (CIMOM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Information Model (CIM) reposito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a fourth, small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0E0A-315D-406D-B3E5-5F936255B7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ry between WMI and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information from, and send instructions to WMI managed resources on behalf of consumer applications and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the implementation details unique to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d resource is exposed based on WMI's uniform access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 use managed resources’ native APIs, and communicate with the CIMOM using WMI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23FE-D0A2-4691-9B76-144EFD8677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-on providers can expose management functions unique to a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Systems Management Server, Internet Information Server, and SQL Server, Exchange Server, Microsoft Office, and many 3rd-party applications include 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implemented as DLLs or stand-alone execu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ing in %SystemRoot%\system32\wb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cludes many built-in providers for Windows: Performance API, Registry, Event Manager, Active Directory, SNMP, WDM,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DK lets third-parties develop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E54A-F4E1-4974-9C9D-B38138E86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providers are COM or DCOM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rt objects that have properties and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classes that are stored in CIMOM 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xecutes in-process providers (as opposed to those in dedicated application processes) in a separat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corruption of the RPC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cess is placed in a Job to limit resource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EA44-FB32-4F1C-A142-2359F03B15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56E5-DBFB-4658-98A4-55F51D04DB0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ist of Standard 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143000"/>
          <a:ext cx="9144000" cy="545148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676520"/>
                <a:gridCol w="457200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p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Directo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irectory\ld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s Active Directory objects to W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Log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evt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 Windows event logs, for example, read, backup, clear, copy, delete, monitor, rename, compress, uncompress, and change event log setting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Count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emperf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raw performance dat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d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ef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, write, enumerate, monitor, create, and delete registry keys and val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incl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snm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SNMP MIB data and traps from SNMP-managed devic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DM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m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w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on WDM device driv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32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mwin32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about the computer, disks, peripheral devices, files, folders, file systems, networking components, printers, processes, security, services, shares, et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Install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about installed softw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0E01-708F-446B-8F76-089ADA6CE2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O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nformation bro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WMI requests and data flow through the CIM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inside Windows Management Instrumentation service, winmgm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OM provides core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 reg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 processing  - WMI Query Language (W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3511-E532-4CA8-A5B9-E23FCD7CE1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Reposi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and management information from different sources can be uniformly represented with a sch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IM is the schema, also called the object repository or class store that models the managed environment and defines every piece of data exposed by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generally represent dynamic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ces of resources can be stored in the CIM, but are generally dynamically retrieved by a provider based on a consumer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48C8-8398-40EF-BB65-764518B82F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consist of properties and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ies describe the configuration and state of a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 are executable functions that perform actions on the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indows XP CIM consists of the following files in %SystemRoot%\system32\wbem\Repository\FS\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btr - Binary-tree (btree) index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data - CIM repository where managed resource definitions are st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C449-9C8E-43F3-90D3-11EC22B735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ing Libra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of automation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 languages, such as VBScript, Jscript, and ActiveState's ActivePerl access the WMI infrastructure via these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nsistent and uniform scripting model for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implemented in a single DLL named wbemdisp.d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s in %SystemRoot%\system32\wbem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a type library named wbemdisp.tl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cripting type library can be used to reference WMI constants from XML-based Windows Script Files, WSH scripts with a .wsf 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B376-F0BD-4A4D-9069-49E8998647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Consum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are the top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sumer is a script, enterprise management application, Web-based application, or other administrative tool, that accesses and controls management information available through the WMI infra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anagement applications serve dual roles as both WMI consumer and WMI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and Systems Management Server are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6F3D-22AA-4392-8690-3AB5D3793E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ntrol (wmimgmt.msc) is a Microsoft Management Console (MMC) snap-in that allows you to configure WMI settings on a local or remot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(wbemtest.exe) is a general-purpose, graphical tool for interacting with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into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use WMI Tester to browse the CIM schema and examine managed resource class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can also be used to perform the same actions your WMI-based scripts perform, such as retrieving instances of managed resources and running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D5FB-C06A-4D81-9DFC-5AF359AA49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mmand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d as part of Windows XP Professional and Server 2003, the WMI Command-line tool (wmic.exe) provides a command line interface to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an use wmic.exe to perform common WMI tasks from the command line, including browsing the CIM and examining CIM class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M St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 Studio, part of the WMI SDK, provides a Web-based interface to interact with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et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umClasses.vbs, EnumInstances.vbs, and EnumNamespaces.v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et Script Center - http://www.microsoft.com/technet/community/scriptcenter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7636-9595-4859-933B-A1E207DFEC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popular interface is the script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eed for third-party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like stand-alone utilities, but easily modif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cript.exe is the command-line interface to Windows Script Host (WS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cript scriptname.extension [options..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help, type Cscript /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et Scripting Center has more than hund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Basic scripts that use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technet/community/scriptcenter/default.m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start a process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8400" indent="-23436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cript exec.vbs /s servername /e notep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55EF-22E8-400A-B278-CCE76FF350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mote Process Execu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rpt from exec.vb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03680" y="30542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0240" y="2057400"/>
            <a:ext cx="786168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Connect("root\cimv2"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UserName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Password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Server  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bjService  )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Please check the server name, "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amp; "credentials and WBEM Core.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Message = "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ProcessId = 0Set objInstance = objService.Get("Win32_Process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ErrorOccurred(" occurred getting a " &amp;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" Win32_Process class object.")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objInstance is nothing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Status = objInstance.Create(strCommand, null, null, intProcess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2DE4-419F-4EC4-B60F-DC4D0C7B684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2.1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Management Instrumentation (W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View on Window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Scripting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-base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X Scripting Support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8CF4-A062-461E-A118-B2C531EB954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btain physical memory siz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LogicalMemoryConfiguration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"Total Physical Memory (kb): " &amp; wbemObject.TotalPhysical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4FB2-638A-40E6-B10C-240680B50D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trieve services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Service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Display Name:  " &amp; wbemObject.DisplayName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te:      " &amp; wbemObject.State      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rt Mode: " &amp; wbemObject.Start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55D8-5B64-4DC6-87C9-2ADA7145E0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3280" y="3805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bemtest Ut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305000"/>
            <a:ext cx="4343400" cy="3705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733920" y="3294000"/>
            <a:ext cx="4467240" cy="2698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32000" y="2708280"/>
            <a:ext cx="2376360" cy="792000"/>
          </a:xfrm>
          <a:prstGeom prst="line">
            <a:avLst/>
          </a:prstGeom>
          <a:ln w="38160">
            <a:solidFill>
              <a:srgbClr val="99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1B82-3E54-4349-8F02-7ABE1D61BC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-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ix Subsystem for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ix - a full POSIX subsystem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replaces the original POSIX subsystem on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network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erability between POSIX and Windows subsystems (CreateProcess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 for UNIX (SFU 3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ndled with many essential UNIX tools (X11R5 cl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allows to run UNIX applications and scripts on Windows (after re-compil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46A2-8DD0-4CEB-8202-CDD06187A1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+ Interix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3059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environment to run UNIX applications and scripts on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y integrated with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300 utilitie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software development 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for more than 1900 UNIX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U is freely downloadable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windowsserversystem/sfu/download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D4002-D9BD-4BB0-8B5C-551F5CA905F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: KornShell and C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languages: awk, perl, sed, and Tcl/T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 tools: rsh, rlogin, telnet and x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ch tools: At, cron and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212F-BB55-4348-8AA6-90252893DA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SD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1900+ interfa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I C, POSIX.1 and POSIX.2 interfa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tools: make, RCS, lex, yacc, cc, c89, nm, ar, str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ers: gcc, g++, g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 curses libr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D-style sockets library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1R5 libraries and header fi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Visual C/C++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61C5-7EDC-4AE3-BD7A-689C6BD09A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oir, Understand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ior, Leveraging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eg Stemp, Dean Tsaltas, and Bob Wells (Microsoft Corporation)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than Wilansky (Network Design Group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-BoldMT"/>
              </a:rPr>
              <a:t>WMI Scripting clin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Management Instrumentation (from pp. 2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MI Software Developers Kit (SDK)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s about UNIX scripting on Windows in Unit OS-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B742-A39C-4929-958D-43AD42534268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Introduc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pt is a sequence of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a program, but its not comp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s are dynamically interpreted by a scripting en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scripts are plain-text source and not compiled, they are easy to change and to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6A08-8E29-4412-9C9D-71EF42DD0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Suppor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support requ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gine that reads the scripting language and interpret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via the scripting engine to interactive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includes an extensible scripting eng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upports VB (Visual Basic) and J (Java) 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rich interaction with operating system environment via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CD398-2636-4CC2-9F58-94C68240CC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Verdana"/>
              </a:rPr>
              <a:t>Microsoft Windows Management Instrumentation (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MI is the core management-enabling technology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ilt into Windows 2000, Windows XP, and Windows Server 200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iginally released in 1998 as an add-on with Windows NT 4.0 Service Pack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industry 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seen by the Distributed Management Task Force (DMT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most all Windows resources can be accessed, configured, managed, and monitored via W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07558-D34F-4232-BDC0-3AD49E63B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Backgroun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5345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an implementation of Web-Based Enterprise Management (WBEM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a standard that the Distributed Management Task Force (DMTF) de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was added to address two short-comings in previous versions of 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monitoring 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in Windows 2000 an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on for NT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version available Win9x/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BEED-1AF2-4EAB-B4CA-BCE0F68BF6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-based scripts using COM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cript Host / VBScript / ActivePe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-in WMI tool with XP (except Home Edition) and Server 2003: WMI Console (WMI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helps to retrieve performance data, manage event logs, file systems, printers, processes, registry settings, scheduler, security, services, shares, and numerous other operating system components and configuration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-based scripts can manage network services such as DNS, DHCP, and SNMP-enabled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82BD-8141-4133-90CD-850345F8E4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health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can monitor and respond to event log entries as they occur, file system and registry modifications, and other real-time operating system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and notifications are to WMI what SNMP traps are in the SNMP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s can manage Microsoft Application Center, Operations Manager, Systems Management Server, Internet Information Server, Exchange Server, and 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BFB6-9D0F-4E3F-8507-B559A2D0F2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cp:lastPrinted>2005-12-20T20:50:16Z</cp:lastPrinted>
  <dcterms:modified xsi:type="dcterms:W3CDTF">2006-02-07T23:51:05Z</dcterms:modified>
  <cp:revision>116</cp:revision>
  <dc:subject>Windows Operating Systems Internals Course</dc:subject>
  <dc:title>Unit OS 12: Scripting</dc:title>
</cp:coreProperties>
</file>